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1C24-A6FB-4843-9149-D2B66D0C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hanced greenhouse effect helps the Earth stay warm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t ho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CO2 stays the same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we are burning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?? = ways farmers emit GH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GHGs do each of these em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 machines on diesel, rain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us oxide – fert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e – rice and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re West and East Antarctica different from one an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remember which part of Antarctica is nearest to another continent? Western –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hings to you think they research? Biologists to research the seals, plants, penguins etc. Meteorologists to explore the weather – global warming, hole in the ozone, monitor the ice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researchers what other jobs are people needed for in Antarctica? Cooks, doctors, nurses, technicians to maintain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on a base, can you think of the problems that might arise? Some getting sick  when they are iced in. 24 hours dark, no fresh food, sever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of the sun in the sky is very low at the poles so the sun’s heat has to warm up a bigger area – and the sunlight passes through a bigger slice of atmosphere so more gets returned to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bedo of snow is about 90% - which means 90% of the heat is reflected straight back out into space – unlike the sea with an albedo of 15% - that means 85% of the sun’s heat is absorbed – this is why the N Pole is warming up quicker than Antarctic – although the Western Peninsular surrounded by sea is warming up quicker – melting ice sheets most on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ir is clean – no specs of dust or pollution, or water vapour to trap and scatter reflected radiation — radiation that would warm the pola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re do CFCs fit in?– Chemicals called CFCs get up into the atmosphere and join with the extra oxygen atoms so ozone cannot be formed – this lets the UV light thr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CFCs so important? They do all sorts of job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llants for aeroso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ting foamed plastics like expanded polystyrene or polyurethane foa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solvents for dry cleaning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degreasing purp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we had to find other chemicals to do the same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bad about UV light? – causes skin cancer/ cataracts ad may harm other animals and the plant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get better?  - Yes, because of the Montreal protocol the CFCs in the air should have broken down by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attern? Primary, secondary, tertiary, quaternary economic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primary ec act? Mining, fish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primary? – they grow extract or otherwise acquire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secondary ec act? Any job that takes raw/processed materials and turns it into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secondary? – se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tertiary ec act? Doctors, shop workers, transpor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tertiary? – they provide services of all kinds – known as the servic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name any other quaternary ec act? Inventors scientists designers architects computer programmers consul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special about quaternary? – they invent and make new things – develop new ideas – give ad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produce mainly field crop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arable) For example? (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ch as rice, or wheat or soya or sug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mostly rear animal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pastoral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For example? (Sheep farms in Wales, cattle in Austral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produce crops and animals equally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mix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fa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production of fruit, vegetables, mushrooms and ornamental plants? (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Horticultu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 Where is this big business? ( flowers from Kenya,  salad leaves from Hol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are run purely for profit? (commercial) In HICs for example? (nearly all of them). In LICs/MICs ? (Coffee and tea plantations in Kenya and Ethiopia, ranching in Brazi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arms that mostly produce food to feel the family? (subsistence) Eg? (Anywhere in Afr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ere a great deal of effort (inputs) is put into growing a lot in a small area? (intensive) Eg? (rice paddies and market gardening (horticulture)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ere a large area produced relatively little and the inputs ( labour and chemicals) are low? ( extensive) Eg? ( hill farm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st modern farms operate from one piece of land over generations ( sedentary)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owever some peoples still follow herds that move to different places by season? (nomadic) Eg? (reindeer herds in northern Europe and Asia, the Msaii in Kenya follow catt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thers cut down and burn trees in forests, stay for several years before they move on? (shifting) Eg? (In the Amazon and in the forests of Indone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s either: mixed or arable or pastoral or horti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ither commercial or subsist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edentary or nomadic or sh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ither intensive or ex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2DF-EF73-4494-A783-EC639418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F72D-A661-4ED6-9669-396A505EF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al greenhouse effect helps the Earth sta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get hotter.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oxygen in the air traps enough of the Sun’s heat to do this.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ys the same because animals breath it in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lants take i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197-32FB-4BDC-8DB4-282FC097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71F4-7E48-4117-927F-466334B7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9EE3-5A7D-40D6-96CD-D534A269F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A4E1-4695-4BCC-9032-B691C9B3D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8123-8C4E-475A-93B2-8E04D6149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748B-0779-41E8-9F5D-A1D8B38C8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C676-F7EB-4F83-90C8-ACD04F148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8307-ADA7-40FA-8CE5-AD8E27731B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4159-ADF9-4CA4-A7E4-2612C0FD9C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B4B1-168D-46B0-86CC-2858F7D08A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5531-629F-428D-8427-85D9032E61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6314-DDD6-42DD-AF26-C31130634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C7BD-C5BB-4894-B411-72D7C18F6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3E02-7F5C-4730-AF29-4CEF21FB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86FF-63D9-44EF-9469-0BA91F614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D1B3-79F5-40B8-9362-B04D94F5D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63D9-D2A1-462F-8709-8C82D8673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907B-AC89-4C44-B72C-F70B14E64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10D5-61E7-42FB-908D-61812317C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1961-16A0-48FC-AF50-FA25D70BA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FEDD-614D-4B1B-8996-A61D31D15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E7FE-3227-403B-9F81-883FB5E31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E047-CDD6-4655-9EDD-2CBE59C55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BDE0-108A-494B-8D80-DD4D5B6C3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F98B-56B5-4A43-8421-1FFABA33E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464-E0EB-4A0D-958A-1C223C4C4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96D-4FC9-4E88-BC2D-8703AAE2DC2E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169-9AA7-4B79-B602-179C3F007BF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http://ysgol-rhyngrwyd.wikispaces.com/Unit+6+Fragile+World" TargetMode="Externa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evision part 2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BB37-1C19-4B02-8B71-8832062FE1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these are the things that can happen if we increase the amount of greenhouses gas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2708280"/>
            <a:ext cx="367200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places will b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127040"/>
            <a:ext cx="2232000" cy="708120"/>
          </a:xfrm>
          <a:prstGeom prst="cloudCallout">
            <a:avLst>
              <a:gd name="adj1" fmla="val 50837"/>
              <a:gd name="adj2" fmla="val -162245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1677600"/>
            <a:ext cx="2232000" cy="708120"/>
          </a:xfrm>
          <a:prstGeom prst="cloudCallout">
            <a:avLst>
              <a:gd name="adj1" fmla="val -79930"/>
              <a:gd name="adj2" fmla="val 10609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4414320"/>
            <a:ext cx="2232000" cy="708120"/>
          </a:xfrm>
          <a:prstGeom prst="cloudCallout">
            <a:avLst>
              <a:gd name="adj1" fmla="val 5328"/>
              <a:gd name="adj2" fmla="val -200810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693600"/>
            <a:ext cx="2232000" cy="708120"/>
          </a:xfrm>
          <a:prstGeom prst="cloudCallout">
            <a:avLst>
              <a:gd name="adj1" fmla="val -78587"/>
              <a:gd name="adj2" fmla="val -72356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ndi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05960"/>
            <a:ext cx="2232000" cy="708120"/>
          </a:xfrm>
          <a:prstGeom prst="cloudCallout">
            <a:avLst>
              <a:gd name="adj1" fmla="val 62365"/>
              <a:gd name="adj2" fmla="val 143949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8040" y="5384880"/>
            <a:ext cx="7989840" cy="131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hanced greenhouse effect helps the Earth stay warm/ get hotter. The CO2 stays the same/increases because we are burning fossil fuel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FF90-86E0-4FC5-8919-79B9F1932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impacts of climate change on Farmin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impacts on farming without action are mostly negative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otter and drier places will produce les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in these places the soil will become poore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laces liable to saltwater flooding will become unproductiv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rmer and wetter places are more likely to suffer from disease, lowering the yiel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laces in the higher latitudes (nearer the poles) are getting a longer growing season and so can produce more and different things than they have managed befor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8508-9208-469E-8580-613B595FD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318600"/>
            <a:ext cx="87138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??? that link these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285264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?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49760"/>
            <a:ext cx="3205080" cy="2024640"/>
          </a:xfrm>
          <a:prstGeom prst="cloudCallout">
            <a:avLst>
              <a:gd name="adj1" fmla="val 66236"/>
              <a:gd name="adj2" fmla="val -23550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ing is the main cause of cutting down the rain forest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1261800"/>
            <a:ext cx="3314520" cy="1554840"/>
          </a:xfrm>
          <a:prstGeom prst="cloudCallout">
            <a:avLst>
              <a:gd name="adj1" fmla="val -57513"/>
              <a:gd name="adj2" fmla="val 59560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lots of machines run on dies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4700160"/>
            <a:ext cx="2232000" cy="1554480"/>
          </a:xfrm>
          <a:prstGeom prst="cloudCallout">
            <a:avLst>
              <a:gd name="adj1" fmla="val 24097"/>
              <a:gd name="adj2" fmla="val -104638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ws burp and ? A l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3811680"/>
            <a:ext cx="3311640" cy="2588760"/>
          </a:xfrm>
          <a:prstGeom prst="cloudCallout">
            <a:avLst>
              <a:gd name="adj1" fmla="val -60500"/>
              <a:gd name="adj2" fmla="val -54282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fertilizer from which nitrous oxide is given off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247040"/>
            <a:ext cx="2950920" cy="1466280"/>
          </a:xfrm>
          <a:prstGeom prst="cloudCallout">
            <a:avLst>
              <a:gd name="adj1" fmla="val 72259"/>
              <a:gd name="adj2" fmla="val 59421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ce paddies produce lots of metha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40DB-4362-477B-B472-C8E78EBA2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0" y="2491920"/>
            <a:ext cx="3271680" cy="1522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rmer mitigate against climate chan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413080"/>
            <a:ext cx="2881080" cy="1084680"/>
          </a:xfrm>
          <a:prstGeom prst="cloudCallout">
            <a:avLst>
              <a:gd name="adj1" fmla="val 97097"/>
              <a:gd name="adj2" fmla="val 19939"/>
            </a:avLst>
          </a:prstGeom>
          <a:solidFill>
            <a:srgbClr val="cc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ing – agro forestr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379080"/>
            <a:ext cx="3314520" cy="2024640"/>
          </a:xfrm>
          <a:prstGeom prst="cloudCallout">
            <a:avLst>
              <a:gd name="adj1" fmla="val -47851"/>
              <a:gd name="adj2" fmla="val 49268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could use their waste to produce biodeis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425480"/>
            <a:ext cx="4174920" cy="2406240"/>
          </a:xfrm>
          <a:prstGeom prst="cloudCallout">
            <a:avLst>
              <a:gd name="adj1" fmla="val 54444"/>
              <a:gd name="adj2" fmla="val -77509"/>
            </a:avLst>
          </a:prstGeom>
          <a:solidFill>
            <a:srgbClr val="ffe497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ws burp: food supplements like flax, alfalfa and fish oil reduce burps and ? A l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4384440"/>
            <a:ext cx="4175280" cy="2406240"/>
          </a:xfrm>
          <a:prstGeom prst="cloudCallout">
            <a:avLst>
              <a:gd name="adj1" fmla="val -25069"/>
              <a:gd name="adj2" fmla="val -54171"/>
            </a:avLst>
          </a:prstGeom>
          <a:solidFill>
            <a:srgbClr val="ff9b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armers use fertilizer : they can use systems like drip irrigation to reduce how much they u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6640"/>
            <a:ext cx="5076720" cy="1936080"/>
          </a:xfrm>
          <a:prstGeom prst="cloudCallout">
            <a:avLst>
              <a:gd name="adj1" fmla="val 48180"/>
              <a:gd name="adj2" fmla="val 66004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ce paddies: you do not have to flood the rice the whole time – just for a short while 2 or 3 tim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F784-A9A2-432F-8028-A9CAA5C52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st places will be worse off as a result of climate chang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specially those in poorer areas such as Africa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re are things that can be done to make climate change easier to deal with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example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educing the effects of the increasing drought – few plants soil erosion and the land turning into desser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educing the effects of heavy rain all at once and then none for some tim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AAD0-DBE1-407C-87DD-7AA21AE92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to do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Underneath the wiki page link to this PowerPoint is a PowerPoint of your work open that has been downloaded from slideshare. Go through the exampl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hoose 2 good ones and 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Know which country it i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at is the problem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at is the solution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hy does it work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ok 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9"/>
              </a:rPr>
              <a:t>http://ysgol-rhyngrwyd.wikispaces.com/Unit+6+Fragile+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E9C7-2D6D-4C67-9B03-F808678657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Antarctic</a:t>
            </a:r>
            <a:br>
              <a:rPr sz="4800"/>
            </a:b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26920" y="1700280"/>
            <a:ext cx="7777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Do you know where Antarctica is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y is seen as a special place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Do you know what the Antarctic Treaty stands for?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y is Antarctica so cold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What are the threats against its continued prosperity?  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Could you argue for/against tourism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5327-746F-4CA0-8B16-0528F29426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558972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vising Antarctic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765000"/>
            <a:ext cx="1871640" cy="2519640"/>
          </a:xfrm>
          <a:prstGeom prst="wedgeRoundRectCallout">
            <a:avLst>
              <a:gd name="adj1" fmla="val 130324"/>
              <a:gd name="adj2" fmla="val 394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tarctica – what makes it such a special place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F25F-FBA9-4139-81B1-F64BBCC33D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Key ideas – any country can carry out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testing of nuclear weapons and the dumping of radioactive waste is forbidden in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 military activities are allowed in Antarctica – the continent must be used for peaceful purpose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aims to slices of Antarctica by individual countries are set aside so long as the Treaty exist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8BBF-DDA0-425E-9873-8ECE3DDFEB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addition, there have been additions that protect the flora and fauna of Antarctic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particular the Antarctic seals - both Ross and Antarctic fur seals are fully protected – the killing of other seals is tightly controlled – no hunting for skins of any typ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nvention on the Conservation of Antarctic Marine Living Resources (1982) controls the amount of fishing that is allowed in Antarctic waters by giving licences to fish up to a certain agreed limit (a quota)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3297-6FE3-446E-85F7-C63F9AA43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did we study? – working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sort economic activities (jobs) into primary, secondary and tertiary activities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 you know the words that describe different types of farming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explain how the enhanced greenhouse affect has been caused? Do you know how climate change can affect different places?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explain one way how farming is negatively affected by climate change and one positive way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 you know 2 ways that farmers add to climate change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think of 2 things farmers do to cancel out some of the harm they do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n you describe a way that farmers in Africa have adapted to climate chang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DD80-F7AB-445F-84E7-67CF657F3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any countries have bases in Antarctica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we know the only real justification is for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kind of things to you think they research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sides researchers what other jobs are people needed for in Antarctica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you were on a base, can you think of the problems that might arise, especially if you stay over the winte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540A-565B-48AD-AFD3-6A276EC1C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is the Antarctic so cold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1558800"/>
            <a:ext cx="2737080" cy="891000"/>
          </a:xfrm>
          <a:prstGeom prst="wedgeRoundRectCallout">
            <a:avLst>
              <a:gd name="adj1" fmla="val -43546"/>
              <a:gd name="adj2" fmla="val 1229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ngle of the sun in the sk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1557360"/>
            <a:ext cx="2737080" cy="1286280"/>
          </a:xfrm>
          <a:prstGeom prst="wedgeRoundRectCallout">
            <a:avLst>
              <a:gd name="adj1" fmla="val -43532"/>
              <a:gd name="adj2" fmla="val 697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lbedo of snow is about 90%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805200"/>
            <a:ext cx="2737080" cy="496440"/>
          </a:xfrm>
          <a:prstGeom prst="wedgeRoundRectCallout">
            <a:avLst>
              <a:gd name="adj1" fmla="val -43532"/>
              <a:gd name="adj2" fmla="val 164925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n air is cle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3933720"/>
            <a:ext cx="3168720" cy="2399760"/>
          </a:xfrm>
          <a:prstGeom prst="cloudCallout">
            <a:avLst>
              <a:gd name="adj1" fmla="val 58754"/>
              <a:gd name="adj2" fmla="val -6654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y do all these make it colder then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F858-B0E0-4FD4-A21C-7350E00B96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is the ozone layer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851040"/>
            <a:ext cx="3097080" cy="1286280"/>
          </a:xfrm>
          <a:prstGeom prst="wedgeRoundRectCallout">
            <a:avLst>
              <a:gd name="adj1" fmla="val -21157"/>
              <a:gd name="adj2" fmla="val 79291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is 3 atoms of oxygen joined togeth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907920"/>
            <a:ext cx="4176720" cy="1286280"/>
          </a:xfrm>
          <a:prstGeom prst="wedgeRoundRectCallout">
            <a:avLst>
              <a:gd name="adj1" fmla="val -20587"/>
              <a:gd name="adj2" fmla="val 80578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is a layer high above the earth containing ozone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2593800"/>
            <a:ext cx="4103640" cy="2076120"/>
          </a:xfrm>
          <a:prstGeom prst="wedgeRoundRectCallout">
            <a:avLst>
              <a:gd name="adj1" fmla="val -53166"/>
              <a:gd name="adj2" fmla="val 28620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protects the earth from UV light from the Sun getting through - UV damages living tissu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5075280"/>
            <a:ext cx="3168720" cy="1836360"/>
          </a:xfrm>
          <a:prstGeom prst="cloudCallout">
            <a:avLst>
              <a:gd name="adj1" fmla="val 10365"/>
              <a:gd name="adj2" fmla="val -8670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y are CFCs so importan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2637000"/>
            <a:ext cx="3168360" cy="1272240"/>
          </a:xfrm>
          <a:prstGeom prst="cloudCallout">
            <a:avLst>
              <a:gd name="adj1" fmla="val 58759"/>
              <a:gd name="adj2" fmla="val -6629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ere do CFCs fit in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3933720"/>
            <a:ext cx="3168720" cy="1836360"/>
          </a:xfrm>
          <a:prstGeom prst="cloudCallout">
            <a:avLst>
              <a:gd name="adj1" fmla="val 58754"/>
              <a:gd name="adj2" fmla="val -7136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is so bad about UV ligh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4200" y="4869000"/>
            <a:ext cx="2522880" cy="1836360"/>
          </a:xfrm>
          <a:prstGeom prst="cloudCallout">
            <a:avLst>
              <a:gd name="adj1" fmla="val 175"/>
              <a:gd name="adj2" fmla="val -8664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ll it ever get better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FA36-82F6-4B31-8E5B-B804CAF4A9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516720" y="673200"/>
            <a:ext cx="2484360" cy="2395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are the issues of human impact on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are a lot of natural resour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                            but so far no-one has shown inter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                                 in mining etc as it just too difficul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is commercial fishing and                            there are pirates who are not obeying the rul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Flotsam is an issue as it is hurting the wildlif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ut waste/rubbish/oil are all tightly controll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owever tourism is a growing issue as more people want to visi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o sticking with tourism – what are the concerns? Do look at the PPs from you guys on the page where this PP is kep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08ED-AB7D-4C6C-BC38-871369F6B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How can we classify jobs –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are the pictures in this order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0920" y="1773360"/>
            <a:ext cx="8642160" cy="4824360"/>
            <a:chOff x="250920" y="1773360"/>
            <a:chExt cx="8642160" cy="4824360"/>
          </a:xfrm>
        </p:grpSpPr>
        <p:sp>
          <p:nvSpPr>
            <p:cNvPr id="176" name=""/>
            <p:cNvSpPr/>
            <p:nvPr/>
          </p:nvSpPr>
          <p:spPr>
            <a:xfrm>
              <a:off x="4572000" y="4186080"/>
              <a:ext cx="4321080" cy="24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920" y="4186080"/>
              <a:ext cx="4321080" cy="24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1773360"/>
              <a:ext cx="432108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920" y="1773360"/>
              <a:ext cx="432108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920" y="1773360"/>
              <a:ext cx="8642160" cy="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920" y="4186080"/>
              <a:ext cx="864216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920" y="6597720"/>
              <a:ext cx="8642160" cy="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0920" y="1773360"/>
              <a:ext cx="0" cy="482436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1773360"/>
              <a:ext cx="0" cy="482436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93080" y="1773360"/>
              <a:ext cx="0" cy="4824360"/>
            </a:xfrm>
            <a:prstGeom prst="line">
              <a:avLst/>
            </a:prstGeom>
            <a:ln cap="sq"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042920" y="1916280"/>
              <a:ext cx="2637000" cy="20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5580000" y="2205000"/>
              <a:ext cx="181944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332000" y="4437000"/>
              <a:ext cx="10666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5796000" y="4365720"/>
              <a:ext cx="144792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4643280" y="1125360"/>
            <a:ext cx="4176720" cy="1008360"/>
          </a:xfrm>
          <a:prstGeom prst="wedgeRoundRectCallout">
            <a:avLst>
              <a:gd name="adj1" fmla="val 20921"/>
              <a:gd name="adj2" fmla="val 70000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f you are bit unsure of how to sort these – see the dustbin game on the wiki for Year 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CE6D-729D-4BA5-BDCB-DF50D0C9A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Farming can be classified according to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pecialisation – what kind of products are produc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Arabl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pastoral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ix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Horticultu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s economic status – the role of money in the far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mercial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ubsistence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 intensively it uses the lan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ntensive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xtens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and tenure – how it owns/uses lan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edentary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madic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hift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8E65-34A8-4724-A344-893BF8E6A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ich words might refer to thes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2428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rabl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mmercial farm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xtensive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orticultura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tensive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07080" y="1052280"/>
            <a:ext cx="228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x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madic farmer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astora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edentary Farmer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ifting agricult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bsistence farm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572000" y="5084640"/>
            <a:ext cx="1800360" cy="1273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2700360" y="3357720"/>
            <a:ext cx="185724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>
            <a:off x="4716360" y="1197000"/>
            <a:ext cx="1490760" cy="1390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2916360" y="836640"/>
            <a:ext cx="1512720" cy="1754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4572000" y="2708280"/>
            <a:ext cx="1754280" cy="2233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BC71-B62A-42A0-9C3D-9495B3493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4E49-82C9-4E82-BD28-C370EF0FC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3624480"/>
            <a:ext cx="409896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natural greenhouse effect helps the Earth stay warm/get hotter. The carbon dioxide/oxygen in the air traps enough of the Sun’s heat to do this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 because animals breath it in/out and plants take it in/ou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3806-5C71-448D-8955-213619CA5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D5F3-0087-4131-8608-8628AFA49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899F-BF93-4F5F-BDB7-11C8514DD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5:17:54Z</dcterms:created>
  <dc:creator>Lindy</dc:creator>
  <dc:description/>
  <dc:language>en-US</dc:language>
  <cp:lastModifiedBy>Lindy</cp:lastModifiedBy>
  <dcterms:modified xsi:type="dcterms:W3CDTF">2010-06-19T13:16:02Z</dcterms:modified>
  <cp:revision>5</cp:revision>
  <dc:subject/>
  <dc:title>Revision part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